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47B-027F-495D-9E05-1C574D50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22C-83DD-46AB-9E0A-92223B2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94C-E971-4230-9006-1089DA64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2E6-3A98-4602-9D1A-880F5E7C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31C-41D1-43A6-BF39-F3620FC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E48-6D5D-442A-A256-937713DB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78F-83BC-4C62-956E-585E0517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021-AF48-4017-82F7-B044E0A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A57-B475-4881-995C-63850B7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519-17CD-4766-8CCB-BB9F792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9AF-8821-4F19-AF80-236FFC8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46B-6476-4D0F-9FBF-AD30CE6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35D-7E80-4B20-A460-C304E190EF1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0 Zo srdca hĺbky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rdca hĺb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spievam chvály žal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voje požehn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enne prijím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Bože, Kráľu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 piesňou plnou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zniesť až nad obla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ld zložiť pred tró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, si ma z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sprevád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itia kríž môj ťažk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niesť mi pomá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ôj čuješ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š zbaviť hriechu, vi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Bože trojjedi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š duši mier 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, Pane, pram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života vždy zr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ásky tvojej plam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očistí, to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 víťazstvu ma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srdce verné, smel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ebe patrí celé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ôjho žitia stre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06:56Z</dcterms:modified>
  <cp:revision>15</cp:revision>
  <dc:subject/>
  <dc:title>Je veľký náš Pán, on slávy je Kráľ Nech do všetkých strán  spev vrúcnych znie chvál.</dc:title>
</cp:coreProperties>
</file>